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D262-0EA3-46E0-B5D2-16CCCB08EC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ivatives o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Chlo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Chlo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l5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can be used to conver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ic acid to an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l5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can be used to conver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ic acid to an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290-E956-4696-BB0F-002E3B2B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CC7-1B3B-4034-8EF2-EA0ABE25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A1C-6489-4B5F-AD03-AC29B2B6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5384-8B9D-4D55-B73A-02F6E5CB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483-9F1F-4AC0-AD12-9C5CBF8A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A050-9284-45AE-803E-4C072FE4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5E3-FC0D-4D08-98C3-D1F9C7CB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8ECF-2008-488D-A082-F27F73E5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3C5D-2184-4631-BCCB-05ADDDEE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C58-2955-45DD-A3C0-F867D635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0BA-581A-4C38-A1FF-FA1A1461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8874-BF31-47CA-83F1-610E6F92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348F-669D-434B-8A00-E69C3AA26B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Derivatives</a:t>
            </a:r>
            <a:r>
              <a:rPr b="1" lang="en-NZ" sz="7200" spc="-1" strike="noStrike">
                <a:solidFill>
                  <a:srgbClr val="000000"/>
                </a:solidFill>
                <a:latin typeface="Chiller"/>
              </a:rPr>
              <a:t> </a:t>
            </a: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of </a:t>
            </a:r>
            <a:br>
              <a:rPr sz="7200"/>
            </a:b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Acid Chlorid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76720" y="3789360"/>
            <a:ext cx="275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Chiller"/>
              </a:rPr>
              <a:t>Derivatives of methanoyl chlor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2692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000" y="2421000"/>
            <a:ext cx="90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Cl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419640" y="2997360"/>
            <a:ext cx="81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Cl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2752920" cy="2428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"/>
          <p:cNvSpPr/>
          <p:nvPr/>
        </p:nvSpPr>
        <p:spPr>
          <a:xfrm>
            <a:off x="5559480" y="3736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5869800" y="3357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097280" y="34480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2663640" cy="2471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6"/>
          <p:cNvSpPr/>
          <p:nvPr/>
        </p:nvSpPr>
        <p:spPr>
          <a:xfrm>
            <a:off x="21765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174200" y="1773360"/>
            <a:ext cx="459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produ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64080" y="1197000"/>
            <a:ext cx="861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else can be used to convert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carboxylic acid to an acid chlo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Chiller"/>
              </a:rPr>
              <a:t>Derivatives of methanoyl chlor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559480" y="3736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1765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471840" y="2368440"/>
            <a:ext cx="9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3630960" y="184464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900000" y="249228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2195640" y="316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3492360" y="3860640"/>
            <a:ext cx="9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383080" y="436572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702240" y="350028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900000" y="573264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2916360" y="6093000"/>
            <a:ext cx="216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3918240" y="522936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5364000" y="5734080"/>
            <a:ext cx="2016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330360" y="56088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111E-006 L -0.48437 -0.00533 E">
                                      <p:cBhvr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-5.55556E-007 0.2625 E"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0.00382 0.25208 E"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2:52:12Z</dcterms:created>
  <dc:creator>mun091</dc:creator>
  <dc:description/>
  <dc:language>en-US</dc:language>
  <cp:lastModifiedBy>RomaK</cp:lastModifiedBy>
  <dcterms:modified xsi:type="dcterms:W3CDTF">2015-09-01T16:21:55Z</dcterms:modified>
  <cp:revision>8</cp:revision>
  <dc:subject/>
  <dc:title>Derivatives of methanoyl chloride</dc:title>
</cp:coreProperties>
</file>